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1C2-54AF-4483-BAB1-E803B61D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F61-675A-4972-A7C5-5333F5E7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DB9-47B1-49BB-BE2D-726472B2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953-DBF0-40C9-91E4-B21CD19F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6923B-D260-4A70-BA2E-B189732B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A55DB-714A-4792-BE53-A4E446E1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34969-7C5B-49F7-A16B-4A1E42E9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04DA8-C0A9-4414-9177-EC2C5F58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B0A90-EEE6-4F84-BE14-E20A9EDA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4A6A7-2C0D-497F-B271-4851EA97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0713D-F4A0-4772-9C37-3154B267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0DC-19D6-4BA1-80C6-9C58BE63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5504D-79E8-499F-8D51-AB77A6C4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CA6CE-F888-4981-9766-FD991EE9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F5454-9BA1-4660-A3B6-4B5F1B15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08255-155D-443A-966E-1564A3E7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E1362-0982-487B-A43C-F2D36092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6DF-7965-4390-803D-EE62E13F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6D2-AB84-4079-BFF6-FA74FEE3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654-B89A-4D6E-925F-46CC3B93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B53-1B90-47B0-B0AF-90064D45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670-9992-48C3-9222-F89C89BF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73E-1D5A-4BCB-8011-B41B0A0F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C63-5189-4757-AC67-47B5882A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99D5-A451-4AD7-B335-12CDAB3461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9750-8DC4-4AD8-A8D7-615D842BAE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30520" y="0"/>
            <a:ext cx="34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BLEMA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0920" y="907920"/>
            <a:ext cx="6492600" cy="5394600"/>
            <a:chOff x="250920" y="907920"/>
            <a:chExt cx="6492600" cy="5394600"/>
          </a:xfrm>
        </p:grpSpPr>
        <p:grpSp>
          <p:nvGrpSpPr>
            <p:cNvPr id="85" name=""/>
            <p:cNvGrpSpPr/>
            <p:nvPr/>
          </p:nvGrpSpPr>
          <p:grpSpPr>
            <a:xfrm>
              <a:off x="3274920" y="907920"/>
              <a:ext cx="3468600" cy="5394600"/>
              <a:chOff x="3274920" y="907920"/>
              <a:chExt cx="3468600" cy="5394600"/>
            </a:xfrm>
          </p:grpSpPr>
          <p:pic>
            <p:nvPicPr>
              <p:cNvPr id="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4920" y="907920"/>
                <a:ext cx="3468600" cy="539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4209840" y="5011920"/>
                <a:ext cx="289080" cy="2872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50920" y="4292640"/>
              <a:ext cx="2952720" cy="3682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ureza de temple : 58 HR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02200" y="4653000"/>
              <a:ext cx="1008000" cy="28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315840" y="630864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alotecnia. E.T.S.I.M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042920" y="260280"/>
            <a:ext cx="7797600" cy="6345360"/>
            <a:chOff x="1042920" y="260280"/>
            <a:chExt cx="7797600" cy="6345360"/>
          </a:xfrm>
        </p:grpSpPr>
        <p:sp>
          <p:nvSpPr>
            <p:cNvPr id="92" name=""/>
            <p:cNvSpPr/>
            <p:nvPr/>
          </p:nvSpPr>
          <p:spPr>
            <a:xfrm>
              <a:off x="2703600" y="26028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476360" y="1341360"/>
              <a:ext cx="6200640" cy="43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908000" y="2205000"/>
              <a:ext cx="13687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32000" y="1989000"/>
              <a:ext cx="0" cy="288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42920" y="2060640"/>
              <a:ext cx="8636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58 HR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71640" y="4869000"/>
              <a:ext cx="8636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Times New Roman"/>
                </a:rPr>
                <a:t>dj = 6,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09480" y="6237360"/>
              <a:ext cx="28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03600" y="0"/>
            <a:ext cx="34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BLEMA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59280" y="627840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f. J. A. Pero – San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ceros. Metalurgia Física, Selección y Diseñ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32000" y="981000"/>
            <a:ext cx="4464000" cy="5594400"/>
            <a:chOff x="1332000" y="981000"/>
            <a:chExt cx="4464000" cy="559440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332000" y="981000"/>
              <a:ext cx="446400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flipV="1">
              <a:off x="2717640" y="4102200"/>
              <a:ext cx="0" cy="148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103120" y="4181400"/>
              <a:ext cx="69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51200" y="4024440"/>
              <a:ext cx="306360" cy="31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156360" y="3336840"/>
            <a:ext cx="2376360" cy="745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Para dj </a:t>
            </a:r>
            <a:r>
              <a:rPr b="1" lang="es-E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≈ 10 mm</a:t>
            </a: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 D</a:t>
            </a:r>
            <a:r>
              <a:rPr b="1" lang="es-ES" sz="2000" spc="-1" strike="noStrike" baseline="-25000">
                <a:solidFill>
                  <a:srgbClr val="0066ff"/>
                </a:solidFill>
                <a:latin typeface="Times New Roman"/>
              </a:rPr>
              <a:t>ci</a:t>
            </a: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 = 65 mm (2,6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042920" y="0"/>
            <a:ext cx="8101080" cy="6863400"/>
            <a:chOff x="1042920" y="0"/>
            <a:chExt cx="8101080" cy="6863400"/>
          </a:xfrm>
        </p:grpSpPr>
        <p:sp>
          <p:nvSpPr>
            <p:cNvPr id="108" name=""/>
            <p:cNvSpPr/>
            <p:nvPr/>
          </p:nvSpPr>
          <p:spPr>
            <a:xfrm>
              <a:off x="2124000" y="285264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82960" y="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95640" y="522936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ig. II.17.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2920" y="5516640"/>
              <a:ext cx="7201080" cy="8150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a D</a:t>
              </a:r>
              <a:r>
                <a:rPr b="1" lang="es-ES" sz="2000" spc="-1" strike="noStrike" u="sng" baseline="-25000">
                  <a:solidFill>
                    <a:srgbClr val="ff0000"/>
                  </a:solidFill>
                  <a:uFillTx/>
                  <a:latin typeface="Times New Roman"/>
                </a:rPr>
                <a:t>ci</a:t>
              </a:r>
              <a:r>
                <a:rPr b="1" lang="es-ES" sz="20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= 2,6” (65 mm):</a:t>
              </a:r>
              <a:r>
                <a:rPr b="1" lang="es-ES" sz="20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 = 1,3” (33 mm para H = 0,5),</a:t>
              </a:r>
              <a:r>
                <a:rPr b="1" lang="es-ES" sz="2000" spc="-1" strike="noStrike">
                  <a:solidFill>
                    <a:srgbClr val="ff0000"/>
                  </a:solidFill>
                  <a:latin typeface="Times New Roman"/>
                </a:rPr>
                <a:t> 1,55” (39 mm para H = 0,7) y 1,75” (45 mm para H = 1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12000" y="6278400"/>
              <a:ext cx="313200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1258920" y="907920"/>
              <a:ext cx="6502320" cy="43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flipH="1">
              <a:off x="6876720" y="1916280"/>
              <a:ext cx="358920" cy="71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4200" y="1700280"/>
              <a:ext cx="71928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H = 0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300720" y="1557000"/>
              <a:ext cx="0" cy="3166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906200" y="2492280"/>
              <a:ext cx="4537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94000" y="2349360"/>
              <a:ext cx="5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1,3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84720" y="47242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2,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54560" y="2349360"/>
              <a:ext cx="287640" cy="2890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906560" y="2060640"/>
              <a:ext cx="446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92200" y="19162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1,55”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54560" y="1916280"/>
              <a:ext cx="287640" cy="288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907640" y="1700280"/>
              <a:ext cx="453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92200" y="16286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1,75”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56360" y="1484280"/>
              <a:ext cx="287280" cy="360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1341360"/>
              <a:ext cx="718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H = 0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00720" y="981000"/>
              <a:ext cx="71928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H = 1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877080" y="1557360"/>
              <a:ext cx="287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88000" y="1268280"/>
              <a:ext cx="0" cy="217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619280" y="0"/>
            <a:ext cx="7524720" cy="6678000"/>
            <a:chOff x="1619280" y="0"/>
            <a:chExt cx="7524720" cy="6678000"/>
          </a:xfrm>
        </p:grpSpPr>
        <p:sp>
          <p:nvSpPr>
            <p:cNvPr id="132" name=""/>
            <p:cNvSpPr/>
            <p:nvPr/>
          </p:nvSpPr>
          <p:spPr>
            <a:xfrm>
              <a:off x="2627280" y="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9280" y="609300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24360" y="3284640"/>
              <a:ext cx="3024360" cy="11912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dondo de 30 mm (periferia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Para H = 0,5         dj = 6 mm Para H = 1,0         dj = 3 mm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70840" y="4292640"/>
              <a:ext cx="27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619280" y="981000"/>
              <a:ext cx="3903120" cy="5400720"/>
              <a:chOff x="1619280" y="981000"/>
              <a:chExt cx="3903120" cy="540072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619280" y="981000"/>
                <a:ext cx="3903120" cy="5400720"/>
                <a:chOff x="1619280" y="981000"/>
                <a:chExt cx="3903120" cy="5400720"/>
              </a:xfrm>
            </p:grpSpPr>
            <p:pic>
              <p:nvPicPr>
                <p:cNvPr id="13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19280" y="981000"/>
                  <a:ext cx="3903120" cy="5400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>
                  <a:off x="2079000" y="501336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Times New Roman"/>
                    </a:rPr>
                    <a:t>3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735280" y="5013360"/>
                  <a:ext cx="0" cy="647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444040" y="5157720"/>
                  <a:ext cx="363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954160" y="1125360"/>
                  <a:ext cx="292680" cy="287640"/>
                </a:xfrm>
                <a:prstGeom prst="ellips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2556000" y="5084640"/>
                <a:ext cx="0" cy="576360"/>
              </a:xfrm>
              <a:prstGeom prst="line">
                <a:avLst/>
              </a:prstGeom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11280" y="5661000"/>
                <a:ext cx="28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ff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627280" y="566100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4005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619280" y="0"/>
            <a:ext cx="7524720" cy="6678000"/>
            <a:chOff x="1619280" y="0"/>
            <a:chExt cx="7524720" cy="6678000"/>
          </a:xfrm>
        </p:grpSpPr>
        <p:sp>
          <p:nvSpPr>
            <p:cNvPr id="148" name=""/>
            <p:cNvSpPr/>
            <p:nvPr/>
          </p:nvSpPr>
          <p:spPr>
            <a:xfrm>
              <a:off x="2627280" y="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9280" y="609300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4360" y="3284640"/>
              <a:ext cx="3024360" cy="11912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dondo de 30 m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mitad diámetro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Para H = 0,5         dj = 9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Para H = 1,0         dj = 6 m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70840" y="4292640"/>
              <a:ext cx="27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619280" y="907920"/>
              <a:ext cx="3857760" cy="5399280"/>
              <a:chOff x="1619280" y="907920"/>
              <a:chExt cx="3857760" cy="5399280"/>
            </a:xfrm>
          </p:grpSpPr>
          <p:pic>
            <p:nvPicPr>
              <p:cNvPr id="1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19280" y="907920"/>
                <a:ext cx="3857760" cy="53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4932360" y="3141720"/>
                <a:ext cx="3603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95640" y="5229360"/>
                <a:ext cx="64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71640" y="5157720"/>
                <a:ext cx="0" cy="576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56000" y="5084640"/>
                <a:ext cx="0" cy="649440"/>
              </a:xfrm>
              <a:prstGeom prst="line">
                <a:avLst/>
              </a:prstGeom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03640" y="2637000"/>
                <a:ext cx="360360" cy="215640"/>
              </a:xfrm>
              <a:prstGeom prst="ellipse">
                <a:avLst/>
              </a:prstGeom>
              <a:noFill/>
              <a:ln w="93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2627280" y="573408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11280" y="573408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ff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64360" y="4005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00000" y="230040"/>
            <a:ext cx="8172720" cy="6633360"/>
            <a:chOff x="900000" y="230040"/>
            <a:chExt cx="8172720" cy="6633360"/>
          </a:xfrm>
        </p:grpSpPr>
        <p:sp>
          <p:nvSpPr>
            <p:cNvPr id="163" name=""/>
            <p:cNvSpPr/>
            <p:nvPr/>
          </p:nvSpPr>
          <p:spPr>
            <a:xfrm>
              <a:off x="2700360" y="23004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80000" y="3254400"/>
              <a:ext cx="3097440" cy="11912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dondo de 30 m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núcleo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Para H = 0,5         dj = 10 m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Para H = 1,0         dj = 6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39080" y="429264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9080" y="6278400"/>
              <a:ext cx="320364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8000" y="6207120"/>
              <a:ext cx="252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Fig. VII.5 Curva de Lamont paea r:R = 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900000" y="1484280"/>
              <a:ext cx="4364280" cy="4938840"/>
              <a:chOff x="900000" y="1484280"/>
              <a:chExt cx="4364280" cy="4938840"/>
            </a:xfrm>
          </p:grpSpPr>
          <p:pic>
            <p:nvPicPr>
              <p:cNvPr id="1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00000" y="1484280"/>
                <a:ext cx="4364280" cy="493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1403280" y="4941720"/>
                <a:ext cx="287280" cy="287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50920" y="5589720"/>
                <a:ext cx="287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619280" y="5084640"/>
              <a:ext cx="64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7640" y="3213000"/>
              <a:ext cx="360360" cy="21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124000" y="5013000"/>
              <a:ext cx="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27640" y="2997360"/>
              <a:ext cx="360360" cy="215640"/>
            </a:xfrm>
            <a:prstGeom prst="ellipse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79640" y="5013360"/>
              <a:ext cx="0" cy="64764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35280" y="5661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ff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35840" y="400536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58880" y="189000"/>
            <a:ext cx="34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BLEMA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659640" y="3429000"/>
          <a:ext cx="2160000" cy="2376000"/>
        </p:xfrm>
        <a:graphic>
          <a:graphicData uri="http://schemas.openxmlformats.org/drawingml/2006/table">
            <a:tbl>
              <a:tblPr/>
              <a:tblGrid>
                <a:gridCol w="720720"/>
                <a:gridCol w="718560"/>
                <a:gridCol w="720720"/>
              </a:tblGrid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 =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/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659640" y="765000"/>
          <a:ext cx="2170080" cy="2415960"/>
        </p:xfrm>
        <a:graphic>
          <a:graphicData uri="http://schemas.openxmlformats.org/drawingml/2006/table">
            <a:tbl>
              <a:tblPr/>
              <a:tblGrid>
                <a:gridCol w="723960"/>
                <a:gridCol w="722160"/>
                <a:gridCol w="72396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 = 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/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6082200" y="630864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alotecnia. E.T.S.I.M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42920" y="1628640"/>
            <a:ext cx="5257800" cy="3716640"/>
            <a:chOff x="1042920" y="1628640"/>
            <a:chExt cx="5257800" cy="371664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042920" y="1628640"/>
              <a:ext cx="5257800" cy="37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flipV="1">
              <a:off x="2916360" y="2349360"/>
              <a:ext cx="0" cy="22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76000" y="2492280"/>
              <a:ext cx="1655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843280" y="2347920"/>
              <a:ext cx="0" cy="22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340000" y="2204640"/>
              <a:ext cx="0" cy="237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978200" y="2131920"/>
              <a:ext cx="0" cy="244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474560" y="2276640"/>
              <a:ext cx="64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476360" y="234936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476360" y="189000"/>
            <a:ext cx="7667640" cy="6484680"/>
            <a:chOff x="1476360" y="189000"/>
            <a:chExt cx="7667640" cy="648468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1476360" y="1125360"/>
              <a:ext cx="5256360" cy="48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751280" y="6093000"/>
              <a:ext cx="439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19240" y="18900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292720" y="414936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124000" y="4365720"/>
              <a:ext cx="3384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63640" y="42926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8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6720" y="4869000"/>
              <a:ext cx="432000" cy="4316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21:29:50Z</dcterms:created>
  <dc:creator>José Ovidio García</dc:creator>
  <dc:description/>
  <dc:language>en-US</dc:language>
  <cp:lastModifiedBy>José Ovidio García</cp:lastModifiedBy>
  <dcterms:modified xsi:type="dcterms:W3CDTF">2005-07-18T23:59:33Z</dcterms:modified>
  <cp:revision>39</cp:revision>
  <dc:subject/>
  <dc:title>Diapositiva 1</dc:title>
</cp:coreProperties>
</file>