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AA0-144D-4F28-AEF3-377760A4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F84-758F-424C-98A9-340EB572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A55-EADE-4DFF-9956-91A83F34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9AC-E622-4E5F-9E3C-5AC80999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ED489-03FA-432E-B53C-0BD84800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3E01E-7BF3-4596-8342-02052300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8C78F-C28F-40A3-A673-90527033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9D64C-E2C3-4674-A19E-E42CB9E0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C2EE9-05DB-4E7D-8B18-CC6EC1C4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E7EF2-0A62-47CB-A4E2-CC5F5BD4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C6FCE-AB4A-4F2B-93BA-4DBAA447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1F2-F49F-409A-B47F-9A6BC3F6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7312C-6BE0-4D15-B79C-99DA7E64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C047F-33CB-4B76-96A4-EB6E029A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8F634-5E72-4879-82E6-D685FC67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ABB7C-A077-4238-9A9C-73B6B1EC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A95B8-C53F-4FA7-A535-D839C07A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785-765D-4002-A750-4D283AEE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790-D464-4EFB-8D9D-2DF90217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AAF-8284-4F06-87D4-F6ED8059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359-3AFD-4D2A-8C9F-DD238AC8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E4C-EF2B-4ED9-87B2-383F162C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A00-103A-4118-988C-1DA49BE6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D71-4B5A-4332-A1D6-BE443B35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AE7A-2394-4BE4-A965-2F0CAC9DF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72AF-4561-4AE4-89A6-A5EC38A91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03280" y="476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ACEROS FERRITOPERLITICOS  (%C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 0,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060640"/>
            <a:ext cx="8280360" cy="3944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/ Pickering (pág. 266, 308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(MPa) = 54 + 3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(%Mn) + 83 . (%Si) + 354 . (%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17 . 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1/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(MPa) = 295 + 28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%Mn) + 83 . (%Si) + 4 . (% perlita) + 8 . 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T (ºC) = -19 – 11,5 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1/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44 . (%Si) + 700 . (%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+ 2,2 . (% perli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5977080"/>
            <a:ext cx="371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f. J. A. Pero – San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eros. Metalurgia Física, Selección y Diseñ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79280" y="189000"/>
            <a:ext cx="8964720" cy="6496920"/>
            <a:chOff x="179280" y="189000"/>
            <a:chExt cx="8964720" cy="6496920"/>
          </a:xfrm>
        </p:grpSpPr>
        <p:sp>
          <p:nvSpPr>
            <p:cNvPr id="87" name=""/>
            <p:cNvSpPr/>
            <p:nvPr/>
          </p:nvSpPr>
          <p:spPr>
            <a:xfrm>
              <a:off x="1476360" y="189000"/>
              <a:ext cx="676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00"/>
                  </a:solidFill>
                  <a:latin typeface="Times New Roman"/>
                </a:rPr>
                <a:t>ACEROS FERRITOPERLITICOS  (0,35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&lt;</a:t>
              </a: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" sz="3200" spc="-1" strike="noStrike">
                  <a:solidFill>
                    <a:srgbClr val="ffff00"/>
                  </a:solidFill>
                  <a:latin typeface="Times New Roman"/>
                </a:rPr>
                <a:t>%C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&lt; 0,40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9280" y="1844640"/>
              <a:ext cx="8964720" cy="4258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S/ Pickering (pág. 332 – 333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(MPa) = f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(35,4 + 58,5 . %M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+ 17,4 . 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1/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+ (1 -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) (178,6 + 3,9 . S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-1/2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) +             + 63,1 . %Si + 425 . N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(MPa) = f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(246,4 + 1143 . 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/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+ 18,2 . 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1/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+ (1 -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r>
                <a:rPr b="1" lang="es-ES" sz="2000" spc="-1" strike="noStrike" baseline="30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) (720 + 3,5 . S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-1/2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) +     + 97 . %S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T (ºC) = f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-46 – 11,5 . 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/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+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 -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-335 + 5,6 . 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/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13,3 . p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/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               + 3480 . 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) + 48,7 . %Si + 762 . 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1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54560" y="6165720"/>
              <a:ext cx="3710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16:53:03Z</dcterms:created>
  <dc:creator>José Ovidio García</dc:creator>
  <dc:description/>
  <dc:language>en-US</dc:language>
  <cp:lastModifiedBy>José Ovidio García</cp:lastModifiedBy>
  <dcterms:modified xsi:type="dcterms:W3CDTF">2005-07-21T21:03:33Z</dcterms:modified>
  <cp:revision>13</cp:revision>
  <dc:subject/>
  <dc:title>Diapositiva 1</dc:title>
</cp:coreProperties>
</file>