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A0C-5E31-43C8-96EF-CF06F33E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A88-7651-4724-B267-AC365A98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FB4-6DB0-4031-8E07-17C3C36F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91B-47C9-4FFC-973B-603DC533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B3903-160D-4D0F-87BC-1949DB9B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CAB51-9006-45AB-BFA0-680A6C5E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60CC3-77DF-4CC5-BA89-00DB9CFC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3A9AF-A3DE-4B71-9A5F-FB8C15ED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B43BB-8E0C-481F-8127-1493DDA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67A9F-8603-4944-8684-7DB91587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1AC04-5ED6-464D-9DC2-67203FB1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12A-CA5A-49FE-944A-8907DD26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D2507-EEE1-4632-BED4-2D6EA36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3EB9C-532A-4E5A-A996-5A23C84A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43E85-6799-4D14-B459-0E02736F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B8A1E-55AA-4EB4-BEBE-E45D66DF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4C880-6EBA-4384-A171-C0DAFA3A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1AA-88B1-42B9-BA3D-FA3D7D1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DB3-A764-4F75-B1A6-4566A4D4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9C9-E98C-42F8-A2AD-FDF23615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D2E-11E7-4CB1-BB0F-8F584842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880-3F03-45A5-BE3A-1155BAA9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2D8-5D97-4953-9AED-5CEEC1D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534-367E-433E-9DC4-B77A32DA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ADE6-E9B2-40F9-9C55-8F863906AE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4EC-2DCF-4C8E-98F9-C0E0C8443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51280" y="587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1052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551664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0"/>
            <a:ext cx="8093160" cy="6860160"/>
            <a:chOff x="755640" y="0"/>
            <a:chExt cx="8093160" cy="6860160"/>
          </a:xfrm>
        </p:grpSpPr>
        <p:grpSp>
          <p:nvGrpSpPr>
            <p:cNvPr id="86" name=""/>
            <p:cNvGrpSpPr/>
            <p:nvPr/>
          </p:nvGrpSpPr>
          <p:grpSpPr>
            <a:xfrm>
              <a:off x="755640" y="0"/>
              <a:ext cx="8093160" cy="6860160"/>
              <a:chOff x="755640" y="0"/>
              <a:chExt cx="8093160" cy="68601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755640" y="0"/>
                <a:ext cx="8093160" cy="6860160"/>
                <a:chOff x="755640" y="0"/>
                <a:chExt cx="8093160" cy="6860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203640" y="0"/>
                  <a:ext cx="2944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 u="sng">
                      <a:solidFill>
                        <a:srgbClr val="ffff00"/>
                      </a:solidFill>
                      <a:uFillTx/>
                      <a:latin typeface="Times New Roman"/>
                    </a:rPr>
                    <a:t>PROBLEMA I.6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55640" y="5084640"/>
                  <a:ext cx="6624720" cy="15825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(</a:t>
                  </a:r>
                  <a:r>
                    <a:rPr b="1" lang="el-G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π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. D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) / 4 = 176,7 mm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e = 0,2 / 100 . 50 = 0,1 mm         R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174 KN / 176,7 mm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0.98 KN / mm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233 / 176,7 = 1,32 KN / mm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A = (L – L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) / L</a:t>
                  </a:r>
                  <a:r>
                    <a:rPr b="1" lang="es-E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= (58 – 50) / 50 = 0,16 (16 %)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588000" y="6553080"/>
                  <a:ext cx="2260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Metalotecnia. E.T.S.I.M.O.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2843280" y="620640"/>
                  <a:ext cx="3241080" cy="4320720"/>
                  <a:chOff x="2843280" y="620640"/>
                  <a:chExt cx="3241080" cy="4320720"/>
                </a:xfrm>
              </p:grpSpPr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620640"/>
                    <a:ext cx="3241080" cy="43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 flipH="1">
                    <a:off x="3254400" y="2059920"/>
                    <a:ext cx="156240" cy="2729520"/>
                  </a:xfrm>
                  <a:prstGeom prst="line">
                    <a:avLst/>
                  </a:prstGeom>
                  <a:ln w="1908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>
                    <a:off x="3177000" y="2211840"/>
                    <a:ext cx="311040" cy="0"/>
                  </a:xfrm>
                  <a:prstGeom prst="line">
                    <a:avLst/>
                  </a:prstGeom>
                  <a:ln w="1908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5" name=""/>
              <p:cNvSpPr/>
              <p:nvPr/>
            </p:nvSpPr>
            <p:spPr>
              <a:xfrm>
                <a:off x="3203640" y="56610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3132000" y="1484280"/>
              <a:ext cx="2160720" cy="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9:54:48Z</dcterms:created>
  <dc:creator>José Ovidio García</dc:creator>
  <dc:description/>
  <dc:language>en-US</dc:language>
  <cp:lastModifiedBy>José Ovidio García</cp:lastModifiedBy>
  <dcterms:modified xsi:type="dcterms:W3CDTF">2005-07-14T18:18:48Z</dcterms:modified>
  <cp:revision>12</cp:revision>
  <dc:subject/>
  <dc:title>Diapositiva 1</dc:title>
</cp:coreProperties>
</file>