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A45-C696-4AE8-B889-36C7C06C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0C6-F6C9-4F9C-8140-D6C9A86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5E2-6487-481A-8411-AB15F10E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DBD-7F29-44E8-9A87-34E78AF4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7D8-4924-4C23-908C-1EAADB1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6B1-82CA-4B3D-B166-6C06165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79A7-4737-4474-AA8D-70B9573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0FA-5A73-46C4-B299-4516BA8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8959-3557-418B-99D1-4EB65DF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D324-3667-42E4-A3D8-8D66A53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4B18-62B9-4CF9-94A2-E9B6870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1A8-827D-4217-8A1A-BE122B01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899-CBC6-4EBA-A01F-DB97370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A0E5-3010-47A3-97F2-108848C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38A9-B5C1-4A29-A98B-2A0F966A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38D9-A7B0-4BA4-8DA6-87446A48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A296-5CCD-401B-BD25-1A346211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2D8-4703-4799-A379-71E3911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6CF-F377-4415-BBE2-FB83C3F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F81-386C-4224-ABA1-0245DBEF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7F9-C110-4036-A96D-776D026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1A6-FABD-4E2E-84D3-3025688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3F7-0789-43D8-9594-E275EEA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EF4-3A51-41C6-B14D-F733A3A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087-E2B2-4280-9227-10E64C9ED0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73F-AB52-444F-859A-79A8568AAE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5419800" cy="180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43280" y="333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522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 quí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4870440"/>
            <a:ext cx="912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65840" y="487044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884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13280" y="4870440"/>
            <a:ext cx="9255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8628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62160" y="487044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5160" y="487044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0 – 1,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870440"/>
            <a:ext cx="876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5 – 0,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87044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89960" y="4510080"/>
            <a:ext cx="912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65840" y="451008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0 – 0,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3884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3280" y="4510080"/>
            <a:ext cx="9255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8628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0 – 0,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2160" y="4510080"/>
            <a:ext cx="9241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 má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5160" y="4510080"/>
            <a:ext cx="927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0 – 1,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510080"/>
            <a:ext cx="876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5 – 1,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51008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89960" y="4149720"/>
            <a:ext cx="9126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5840" y="4149720"/>
            <a:ext cx="92412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3884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13280" y="4149720"/>
            <a:ext cx="92556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8628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62160" y="4149720"/>
            <a:ext cx="92412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5160" y="4149720"/>
            <a:ext cx="927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149720"/>
            <a:ext cx="8762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149720"/>
            <a:ext cx="64764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14972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23080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25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51008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51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21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86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328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3884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6584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89960" y="4149720"/>
            <a:ext cx="0" cy="108108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870440"/>
            <a:ext cx="799128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258920" y="0"/>
            <a:ext cx="8066160" cy="6863400"/>
            <a:chOff x="1258920" y="0"/>
            <a:chExt cx="8066160" cy="6863400"/>
          </a:xfrm>
        </p:grpSpPr>
        <p:sp>
          <p:nvSpPr>
            <p:cNvPr id="226" name=""/>
            <p:cNvSpPr/>
            <p:nvPr/>
          </p:nvSpPr>
          <p:spPr>
            <a:xfrm>
              <a:off x="276552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25720" y="522936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08720" y="2924280"/>
              <a:ext cx="0" cy="1728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4000" y="3141720"/>
              <a:ext cx="35276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258920" y="907920"/>
              <a:ext cx="6502320" cy="4316400"/>
              <a:chOff x="1258920" y="907920"/>
              <a:chExt cx="6502320" cy="4316400"/>
            </a:xfrm>
          </p:grpSpPr>
          <p:pic>
            <p:nvPicPr>
              <p:cNvPr id="2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8920" y="907920"/>
                <a:ext cx="6502320" cy="431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 flipH="1">
                <a:off x="6875280" y="1195200"/>
                <a:ext cx="142920" cy="217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46920" y="907920"/>
                <a:ext cx="719280" cy="276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H = 0,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299280" y="1844280"/>
                <a:ext cx="0" cy="28796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06560" y="1915920"/>
                <a:ext cx="44640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74920" y="170028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1,65”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54920" y="4724280"/>
                <a:ext cx="36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3300"/>
                    </a:solidFill>
                    <a:latin typeface="Times New Roman"/>
                  </a:rPr>
                  <a:t>2,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54920" y="1771560"/>
                <a:ext cx="287280" cy="2890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6560" y="256392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91280" y="2636640"/>
                <a:ext cx="0" cy="208764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6560" y="2708280"/>
                <a:ext cx="345600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74920" y="26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1,15”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384280" y="5516640"/>
              <a:ext cx="4249800" cy="11167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4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 = 1,65” (42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 = 1,15” (29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036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333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638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etalotecnia. E.T.S.I.M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484280"/>
          <a:ext cx="8302680" cy="4614840"/>
        </p:xfrm>
        <a:graphic>
          <a:graphicData uri="http://schemas.openxmlformats.org/drawingml/2006/table">
            <a:tbl>
              <a:tblPr/>
              <a:tblGrid>
                <a:gridCol w="1224000"/>
                <a:gridCol w="1614600"/>
                <a:gridCol w="1820880"/>
                <a:gridCol w="1822320"/>
                <a:gridCol w="1820880"/>
              </a:tblGrid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m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900000" y="230040"/>
            <a:ext cx="8172360" cy="6633360"/>
            <a:chOff x="900000" y="230040"/>
            <a:chExt cx="8172360" cy="6633360"/>
          </a:xfrm>
        </p:grpSpPr>
        <p:grpSp>
          <p:nvGrpSpPr>
            <p:cNvPr id="250" name=""/>
            <p:cNvGrpSpPr/>
            <p:nvPr/>
          </p:nvGrpSpPr>
          <p:grpSpPr>
            <a:xfrm>
              <a:off x="900000" y="230040"/>
              <a:ext cx="8172360" cy="6633360"/>
              <a:chOff x="900000" y="230040"/>
              <a:chExt cx="8172360" cy="663336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00000" y="230040"/>
                <a:ext cx="8172360" cy="6633360"/>
                <a:chOff x="900000" y="230040"/>
                <a:chExt cx="8172360" cy="6633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00000" y="230040"/>
                  <a:ext cx="3529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 u="sng">
                      <a:solidFill>
                        <a:srgbClr val="ffff00"/>
                      </a:solidFill>
                      <a:uFillTx/>
                      <a:latin typeface="Times New Roman"/>
                    </a:rPr>
                    <a:t>PROBLEMA 1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5580000" y="3254040"/>
                  <a:ext cx="3096720" cy="916920"/>
                  <a:chOff x="5580000" y="3254040"/>
                  <a:chExt cx="3096720" cy="9169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80000" y="3254040"/>
                    <a:ext cx="3096720" cy="916920"/>
                  </a:xfrm>
                  <a:prstGeom prst="rect">
                    <a:avLst/>
                  </a:prstGeom>
                  <a:solidFill>
                    <a:srgbClr val="ffff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Redondo de 40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a H = 0,5         dj = 12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a H = 0,7         dj = 10 m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056000" y="4046400"/>
                    <a:ext cx="279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056000" y="3757320"/>
                    <a:ext cx="281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868720" y="6278400"/>
                  <a:ext cx="3203640" cy="58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Prof. J. A. Pero – Sanz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ceros. Metalurgia Física, Selección y Diseñ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900000" y="1382400"/>
                  <a:ext cx="4454280" cy="5040360"/>
                  <a:chOff x="900000" y="1382400"/>
                  <a:chExt cx="4454280" cy="504036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82400"/>
                    <a:ext cx="4454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" name=""/>
                  <p:cNvSpPr/>
                  <p:nvPr/>
                </p:nvSpPr>
                <p:spPr>
                  <a:xfrm>
                    <a:off x="1628640" y="4909680"/>
                    <a:ext cx="122400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77720" y="4838400"/>
                    <a:ext cx="0" cy="792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204640" y="4838400"/>
                    <a:ext cx="0" cy="7920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1908000" y="6206760"/>
                <a:ext cx="252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Fig. VII.5 Curva de Lamont paea r:R = 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00720" y="3213000"/>
              <a:ext cx="287280" cy="142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287280" cy="142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484360" y="5661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66100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70040" y="0"/>
            <a:ext cx="7473960" cy="6678000"/>
            <a:chOff x="1670040" y="0"/>
            <a:chExt cx="7473960" cy="6678000"/>
          </a:xfrm>
        </p:grpSpPr>
        <p:sp>
          <p:nvSpPr>
            <p:cNvPr id="269" name=""/>
            <p:cNvSpPr/>
            <p:nvPr/>
          </p:nvSpPr>
          <p:spPr>
            <a:xfrm>
              <a:off x="262728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59280" y="60930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724360" y="3284640"/>
              <a:ext cx="3024360" cy="916920"/>
              <a:chOff x="5724360" y="3284640"/>
              <a:chExt cx="3024360" cy="916920"/>
            </a:xfrm>
          </p:grpSpPr>
          <p:sp>
            <p:nvSpPr>
              <p:cNvPr id="272" name=""/>
              <p:cNvSpPr/>
              <p:nvPr/>
            </p:nvSpPr>
            <p:spPr>
              <a:xfrm>
                <a:off x="5724360" y="3284640"/>
                <a:ext cx="3024360" cy="9169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Redondo de 40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Para H = 0,5         dj = 8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Para H = 0,7         dj = 4 m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7173720" y="3789360"/>
                <a:ext cx="274680" cy="216000"/>
                <a:chOff x="7173720" y="3789360"/>
                <a:chExt cx="274680" cy="216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173720" y="4005360"/>
                  <a:ext cx="27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73720" y="3789360"/>
                  <a:ext cx="2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670040" y="1125360"/>
              <a:ext cx="3749760" cy="5256360"/>
              <a:chOff x="1670040" y="1125360"/>
              <a:chExt cx="3749760" cy="5256360"/>
            </a:xfrm>
          </p:grpSpPr>
          <p:pic>
            <p:nvPicPr>
              <p:cNvPr id="2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0040" y="1125360"/>
                <a:ext cx="3749760" cy="52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411280" y="5013360"/>
                <a:ext cx="505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24000" y="486900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27280" y="4941720"/>
                <a:ext cx="0" cy="71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71640" y="4869000"/>
                <a:ext cx="0" cy="79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87640" y="1268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71640" y="1268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703520" y="1639800"/>
            <a:ext cx="430056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92360" y="2276640"/>
          <a:ext cx="5734080" cy="3544560"/>
        </p:xfrm>
        <a:graphic>
          <a:graphicData uri="http://schemas.openxmlformats.org/drawingml/2006/table">
            <a:tbl>
              <a:tblPr/>
              <a:tblGrid>
                <a:gridCol w="852480"/>
                <a:gridCol w="976320"/>
                <a:gridCol w="976320"/>
                <a:gridCol w="976320"/>
                <a:gridCol w="976320"/>
                <a:gridCol w="9763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/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 (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 /1/16”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900000" y="404640"/>
            <a:ext cx="8064720" cy="6314400"/>
            <a:chOff x="900000" y="404640"/>
            <a:chExt cx="8064720" cy="6314400"/>
          </a:xfrm>
        </p:grpSpPr>
        <p:sp>
          <p:nvSpPr>
            <p:cNvPr id="287" name=""/>
            <p:cNvSpPr/>
            <p:nvPr/>
          </p:nvSpPr>
          <p:spPr>
            <a:xfrm>
              <a:off x="2808360" y="40464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00000" y="1413000"/>
              <a:ext cx="73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Durezas de temple en periferia (r/R = 1) y   núcleo (r/R = 0) para H = 0,5 (aceite con agitación media) y H = 0,7 (aceite con agitación fuerte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116000" y="189000"/>
            <a:ext cx="7848720" cy="6530040"/>
            <a:chOff x="1116000" y="189000"/>
            <a:chExt cx="7848720" cy="6530040"/>
          </a:xfrm>
        </p:grpSpPr>
        <p:sp>
          <p:nvSpPr>
            <p:cNvPr id="291" name=""/>
            <p:cNvSpPr/>
            <p:nvPr/>
          </p:nvSpPr>
          <p:spPr>
            <a:xfrm>
              <a:off x="2825640" y="18900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9640" y="5373720"/>
              <a:ext cx="23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urezas de rev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963800" y="981000"/>
              <a:ext cx="5214960" cy="4317840"/>
              <a:chOff x="1963800" y="981000"/>
              <a:chExt cx="5214960" cy="4317840"/>
            </a:xfrm>
          </p:grpSpPr>
          <p:pic>
            <p:nvPicPr>
              <p:cNvPr id="2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3800" y="981000"/>
                <a:ext cx="5214960" cy="43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2540160" y="2276280"/>
                <a:ext cx="14400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80160" y="2276280"/>
                <a:ext cx="0" cy="2449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35440" y="2060640"/>
                <a:ext cx="360360" cy="360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116000" y="5805360"/>
              <a:ext cx="676764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Para 60 HRC en periferia, no deben sobrepasarse los 225 – 230 ºC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611280" y="333360"/>
            <a:ext cx="8353440" cy="6385680"/>
            <a:chOff x="611280" y="333360"/>
            <a:chExt cx="8353440" cy="6385680"/>
          </a:xfrm>
        </p:grpSpPr>
        <p:sp>
          <p:nvSpPr>
            <p:cNvPr id="301" name=""/>
            <p:cNvSpPr/>
            <p:nvPr/>
          </p:nvSpPr>
          <p:spPr>
            <a:xfrm>
              <a:off x="273528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280" y="1700280"/>
              <a:ext cx="777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Considerando que el grado de ablandamiento es el mismo en la periferia que en el núcleo, se 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77840" y="2311560"/>
            <a:ext cx="632916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71640" y="2852640"/>
          <a:ext cx="7200720" cy="2237040"/>
        </p:xfrm>
        <a:graphic>
          <a:graphicData uri="http://schemas.openxmlformats.org/drawingml/2006/table">
            <a:tbl>
              <a:tblPr/>
              <a:tblGrid>
                <a:gridCol w="1114200"/>
                <a:gridCol w="1014480"/>
                <a:gridCol w="1014480"/>
                <a:gridCol w="1014480"/>
                <a:gridCol w="882720"/>
                <a:gridCol w="1145880"/>
                <a:gridCol w="10144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T/per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er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 HR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T/núc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C (Núc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95280" y="333360"/>
            <a:ext cx="8569440" cy="6385680"/>
            <a:chOff x="395280" y="333360"/>
            <a:chExt cx="8569440" cy="6385680"/>
          </a:xfrm>
        </p:grpSpPr>
        <p:grpSp>
          <p:nvGrpSpPr>
            <p:cNvPr id="307" name=""/>
            <p:cNvGrpSpPr/>
            <p:nvPr/>
          </p:nvGrpSpPr>
          <p:grpSpPr>
            <a:xfrm>
              <a:off x="395280" y="333360"/>
              <a:ext cx="8424720" cy="5117760"/>
              <a:chOff x="395280" y="333360"/>
              <a:chExt cx="8424720" cy="5117760"/>
            </a:xfrm>
          </p:grpSpPr>
          <p:sp>
            <p:nvSpPr>
              <p:cNvPr id="308" name=""/>
              <p:cNvSpPr/>
              <p:nvPr/>
            </p:nvSpPr>
            <p:spPr>
              <a:xfrm>
                <a:off x="3062160" y="333360"/>
                <a:ext cx="3490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5280" y="1700280"/>
                <a:ext cx="8424720" cy="37508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Conclusiones</a:t>
                </a:r>
                <a:r>
                  <a:rPr b="0" lang="en-US" sz="4000" spc="-1" strike="noStrike">
                    <a:solidFill>
                      <a:srgbClr val="ff3300"/>
                    </a:solidFill>
                    <a:latin typeface="Arial"/>
                  </a:rPr>
                  <a:t>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Se elegiría el </a:t>
                </a:r>
                <a:r>
                  <a:rPr b="1" lang="en-US" sz="4000" spc="-1" strike="noStrike" u="sng">
                    <a:solidFill>
                      <a:srgbClr val="0066ff"/>
                    </a:solidFill>
                    <a:uFillTx/>
                    <a:latin typeface="Times New Roman"/>
                  </a:rPr>
                  <a:t>acero O1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templado en aceite con agitación media (</a:t>
                </a: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H = 0,5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) por tener menor gradiente de temperatura entre periferia y núcleo (menor riesgo de agrietamiento).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00360" y="2300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BLEM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9080" y="6278400"/>
            <a:ext cx="32036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f. J. A. Pero – Sa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eros. Metalurgia Física, Selección y 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619280" y="1125360"/>
            <a:ext cx="4454640" cy="5040360"/>
            <a:chOff x="1619280" y="1125360"/>
            <a:chExt cx="4454640" cy="5040360"/>
          </a:xfrm>
        </p:grpSpPr>
        <p:grpSp>
          <p:nvGrpSpPr>
            <p:cNvPr id="314" name=""/>
            <p:cNvGrpSpPr/>
            <p:nvPr/>
          </p:nvGrpSpPr>
          <p:grpSpPr>
            <a:xfrm>
              <a:off x="1619280" y="1125360"/>
              <a:ext cx="4454640" cy="5040360"/>
              <a:chOff x="1619280" y="1125360"/>
              <a:chExt cx="4454640" cy="50403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619280" y="1125360"/>
                <a:ext cx="4454640" cy="5040360"/>
                <a:chOff x="1619280" y="1125360"/>
                <a:chExt cx="4454640" cy="5040360"/>
              </a:xfrm>
            </p:grpSpPr>
            <p:pic>
              <p:nvPicPr>
                <p:cNvPr id="3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1125360"/>
                  <a:ext cx="4454640" cy="504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2843280" y="472428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219640" y="2924280"/>
                  <a:ext cx="287280" cy="21564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340000" y="4797360"/>
                  <a:ext cx="5763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556000" y="5877000"/>
                <a:ext cx="252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Fig. VII.5 Curva de Lamont paea r:R = 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00360" y="537372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514600" y="0"/>
            <a:ext cx="6629400" cy="6863400"/>
            <a:chOff x="2514600" y="0"/>
            <a:chExt cx="6629400" cy="6863400"/>
          </a:xfrm>
        </p:grpSpPr>
        <p:sp>
          <p:nvSpPr>
            <p:cNvPr id="323" name=""/>
            <p:cNvSpPr/>
            <p:nvPr/>
          </p:nvSpPr>
          <p:spPr>
            <a:xfrm>
              <a:off x="3419640" y="5950080"/>
              <a:ext cx="360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514600" y="0"/>
              <a:ext cx="6629400" cy="6863400"/>
              <a:chOff x="2514600" y="0"/>
              <a:chExt cx="6629400" cy="6863400"/>
            </a:xfrm>
          </p:grpSpPr>
          <p:sp>
            <p:nvSpPr>
              <p:cNvPr id="325" name=""/>
              <p:cNvSpPr/>
              <p:nvPr/>
            </p:nvSpPr>
            <p:spPr>
              <a:xfrm>
                <a:off x="2627280" y="0"/>
                <a:ext cx="352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40360" y="6278400"/>
                <a:ext cx="3203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ceros. Metalurgia Física, Selección y Diseñ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14600" y="1197000"/>
                <a:ext cx="3754440" cy="5256360"/>
                <a:chOff x="2514600" y="1197000"/>
                <a:chExt cx="3754440" cy="5256360"/>
              </a:xfrm>
            </p:grpSpPr>
            <p:pic>
              <p:nvPicPr>
                <p:cNvPr id="3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4600" y="1197000"/>
                  <a:ext cx="3754440" cy="525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>
                  <a:off x="3090960" y="53737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94240" y="530064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54600" y="3357720"/>
                  <a:ext cx="360360" cy="28728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3132000" y="6165720"/>
              <a:ext cx="26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Distancia Jominy al extremo templado (mm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587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0"/>
            <a:ext cx="8280360" cy="6719040"/>
            <a:chOff x="684360" y="0"/>
            <a:chExt cx="8280360" cy="6719040"/>
          </a:xfrm>
        </p:grpSpPr>
        <p:sp>
          <p:nvSpPr>
            <p:cNvPr id="128" name=""/>
            <p:cNvSpPr/>
            <p:nvPr/>
          </p:nvSpPr>
          <p:spPr>
            <a:xfrm>
              <a:off x="313524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03280" y="1197000"/>
              <a:ext cx="6350040" cy="4317840"/>
              <a:chOff x="1403280" y="1197000"/>
              <a:chExt cx="6350040" cy="4317840"/>
            </a:xfrm>
          </p:grpSpPr>
          <p:pic>
            <p:nvPicPr>
              <p:cNvPr id="130" name="" descr=""/>
              <p:cNvPicPr/>
              <p:nvPr/>
            </p:nvPicPr>
            <p:blipFill>
              <a:blip r:embed="rId2"/>
              <a:srcRect l="0" t="0" r="0" b="4523"/>
              <a:stretch/>
            </p:blipFill>
            <p:spPr>
              <a:xfrm>
                <a:off x="1403280" y="1197000"/>
                <a:ext cx="6350040" cy="43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467080" y="2011320"/>
                <a:ext cx="876240" cy="5000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78200" y="2781360"/>
                <a:ext cx="1008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Times New Roman"/>
                  </a:rPr>
                  <a:t>HRC = 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81520" y="2886120"/>
                <a:ext cx="5634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81560" y="2760480"/>
                <a:ext cx="0" cy="219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84360" y="6922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ratamiento previo al mecanizado, para dureza de 40 HR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" y="5589720"/>
              <a:ext cx="7632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ustenización completa a 795 ºC – 1 h + tratamiento isotérmico a (425 – 430 ºC) – 15 / 20 min. + enfriamiento al air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2135160" y="189000"/>
            <a:ext cx="6937560" cy="6674400"/>
            <a:chOff x="2135160" y="189000"/>
            <a:chExt cx="6937560" cy="6674400"/>
          </a:xfrm>
        </p:grpSpPr>
        <p:sp>
          <p:nvSpPr>
            <p:cNvPr id="335" name=""/>
            <p:cNvSpPr/>
            <p:nvPr/>
          </p:nvSpPr>
          <p:spPr>
            <a:xfrm>
              <a:off x="2556000" y="189000"/>
              <a:ext cx="352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9080" y="6278400"/>
              <a:ext cx="32036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35160" y="1268280"/>
              <a:ext cx="4309920" cy="5040360"/>
              <a:chOff x="2135160" y="1268280"/>
              <a:chExt cx="4309920" cy="5040360"/>
            </a:xfrm>
          </p:grpSpPr>
          <p:pic>
            <p:nvPicPr>
              <p:cNvPr id="3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5160" y="1268280"/>
                <a:ext cx="430992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3132000" y="5373720"/>
                <a:ext cx="505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64000" y="5300640"/>
                <a:ext cx="0" cy="647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51640" y="2852640"/>
                <a:ext cx="431640" cy="2890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166840" y="0"/>
            <a:ext cx="6977160" cy="6678000"/>
            <a:chOff x="2166840" y="0"/>
            <a:chExt cx="6977160" cy="6678000"/>
          </a:xfrm>
        </p:grpSpPr>
        <p:grpSp>
          <p:nvGrpSpPr>
            <p:cNvPr id="343" name=""/>
            <p:cNvGrpSpPr/>
            <p:nvPr/>
          </p:nvGrpSpPr>
          <p:grpSpPr>
            <a:xfrm>
              <a:off x="2166840" y="0"/>
              <a:ext cx="6977160" cy="6678000"/>
              <a:chOff x="2166840" y="0"/>
              <a:chExt cx="6977160" cy="6678000"/>
            </a:xfrm>
          </p:grpSpPr>
          <p:sp>
            <p:nvSpPr>
              <p:cNvPr id="344" name=""/>
              <p:cNvSpPr/>
              <p:nvPr/>
            </p:nvSpPr>
            <p:spPr>
              <a:xfrm>
                <a:off x="2303640" y="0"/>
                <a:ext cx="352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59280" y="6093000"/>
                <a:ext cx="338472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ceros. Metalurgia Física, Selección y Diseñ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2166840" y="1125360"/>
                <a:ext cx="3800520" cy="5328000"/>
                <a:chOff x="2166840" y="1125360"/>
                <a:chExt cx="3800520" cy="5328000"/>
              </a:xfrm>
            </p:grpSpPr>
            <p:pic>
              <p:nvPicPr>
                <p:cNvPr id="3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66840" y="1125360"/>
                  <a:ext cx="3800520" cy="532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958840" y="5229360"/>
                  <a:ext cx="4320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8480" y="5084640"/>
                  <a:ext cx="358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247920" y="5084640"/>
                  <a:ext cx="0" cy="649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463920" y="1268280"/>
                  <a:ext cx="287280" cy="21600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3132000" y="573408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547640" y="260280"/>
            <a:ext cx="7417080" cy="6458760"/>
            <a:chOff x="1547640" y="260280"/>
            <a:chExt cx="7417080" cy="6458760"/>
          </a:xfrm>
        </p:grpSpPr>
        <p:sp>
          <p:nvSpPr>
            <p:cNvPr id="354" name=""/>
            <p:cNvSpPr/>
            <p:nvPr/>
          </p:nvSpPr>
          <p:spPr>
            <a:xfrm>
              <a:off x="2919240" y="26028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00360" y="5445000"/>
              <a:ext cx="35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urvas Jominy: Aceros O1 y O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2"/>
            <a:srcRect l="0" t="13084" r="0" b="0"/>
            <a:stretch/>
          </p:blipFill>
          <p:spPr>
            <a:xfrm>
              <a:off x="1547640" y="1557360"/>
              <a:ext cx="58327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flipV="1">
              <a:off x="3276720" y="1989000"/>
              <a:ext cx="0" cy="216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26920" y="2133720"/>
              <a:ext cx="865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40000" y="19890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635280" y="2133720"/>
              <a:ext cx="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627280" y="2276640"/>
              <a:ext cx="1152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0000" y="2133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539640" y="260280"/>
            <a:ext cx="8425080" cy="6458760"/>
            <a:chOff x="539640" y="260280"/>
            <a:chExt cx="8425080" cy="6458760"/>
          </a:xfrm>
        </p:grpSpPr>
        <p:grpSp>
          <p:nvGrpSpPr>
            <p:cNvPr id="365" name=""/>
            <p:cNvGrpSpPr/>
            <p:nvPr/>
          </p:nvGrpSpPr>
          <p:grpSpPr>
            <a:xfrm>
              <a:off x="539640" y="260280"/>
              <a:ext cx="8425080" cy="6458760"/>
              <a:chOff x="539640" y="260280"/>
              <a:chExt cx="8425080" cy="6458760"/>
            </a:xfrm>
          </p:grpSpPr>
          <p:sp>
            <p:nvSpPr>
              <p:cNvPr id="366" name=""/>
              <p:cNvSpPr/>
              <p:nvPr/>
            </p:nvSpPr>
            <p:spPr>
              <a:xfrm>
                <a:off x="2919240" y="260280"/>
                <a:ext cx="3490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PROBLEMA 1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00720" y="6381720"/>
                <a:ext cx="26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Times New Roman"/>
                  </a:rPr>
                  <a:t>Metalotecnia. E.T.S.I.M.O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9640" y="1700280"/>
                <a:ext cx="8064720" cy="402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Para una dureza en periferia de 60 HRC, el ablandamiento será: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Para r/R = 1     dj = 6 mm      HRC = 66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Ablandamiento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= (66 – 6) = </a:t>
                </a:r>
                <a:r>
                  <a:rPr b="1" lang="es-ES" sz="24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Arial"/>
                  </a:rPr>
                  <a:t>6 HRC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ara el resto de r/R      dj = 9 mm     HRC = 64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ureza final tras revenido: (64 – 6) = 58 HRC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Lógicamente, al ser D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ci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r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, se alcanza en todo el redondo el 99 % de transformación martensítica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708360" y="2852640"/>
              <a:ext cx="2521080" cy="1152720"/>
              <a:chOff x="3708360" y="2852640"/>
              <a:chExt cx="2521080" cy="1152720"/>
            </a:xfrm>
          </p:grpSpPr>
          <p:sp>
            <p:nvSpPr>
              <p:cNvPr id="370" name=""/>
              <p:cNvSpPr/>
              <p:nvPr/>
            </p:nvSpPr>
            <p:spPr>
              <a:xfrm>
                <a:off x="3708360" y="2852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64360" y="2852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11640" y="40053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0360" y="40053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39640" y="333360"/>
            <a:ext cx="8604360" cy="6385680"/>
            <a:chOff x="539640" y="333360"/>
            <a:chExt cx="8604360" cy="6385680"/>
          </a:xfrm>
        </p:grpSpPr>
        <p:sp>
          <p:nvSpPr>
            <p:cNvPr id="139" name=""/>
            <p:cNvSpPr/>
            <p:nvPr/>
          </p:nvSpPr>
          <p:spPr>
            <a:xfrm>
              <a:off x="30765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640" y="1413000"/>
              <a:ext cx="8604360" cy="18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Temperatura eutectoide, s/ Andrew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s-ES" sz="3200" spc="-1" strike="noStrike" baseline="-25000">
                  <a:solidFill>
                    <a:srgbClr val="ffff00"/>
                  </a:solidFill>
                  <a:latin typeface="Times New Roman"/>
                </a:rPr>
                <a:t>e</a:t>
              </a:r>
              <a:r>
                <a:rPr b="1" lang="es-ES" sz="3200" spc="-1" strike="noStrike">
                  <a:solidFill>
                    <a:srgbClr val="ffff00"/>
                  </a:solidFill>
                  <a:latin typeface="Times New Roman"/>
                </a:rPr>
                <a:t> (ºC) = 727 – 10,7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. (%Mn) + 29,1 . (%Si) + + 16,9 . (%Cr) + 6,38 . (%W) ≈ </a:t>
              </a: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Times New Roman"/>
                  <a:ea typeface="Arial"/>
                </a:rPr>
                <a:t>735 º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57280" y="3716280"/>
              <a:ext cx="6769080" cy="1818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ratamiento de austenización incompleta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 = 700 ºC          t = 10 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T = 650 ºC          t = 20 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716360" y="4653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300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042920" y="333360"/>
            <a:ext cx="7921800" cy="6385680"/>
            <a:chOff x="1042920" y="333360"/>
            <a:chExt cx="7921800" cy="6385680"/>
          </a:xfrm>
        </p:grpSpPr>
        <p:sp>
          <p:nvSpPr>
            <p:cNvPr id="146" name=""/>
            <p:cNvSpPr/>
            <p:nvPr/>
          </p:nvSpPr>
          <p:spPr>
            <a:xfrm>
              <a:off x="27003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16000" y="2276640"/>
              <a:ext cx="5527800" cy="2949480"/>
              <a:chOff x="1116000" y="2276640"/>
              <a:chExt cx="5527800" cy="29494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124000" y="2348280"/>
                <a:ext cx="4519800" cy="2877840"/>
                <a:chOff x="2124000" y="2348280"/>
                <a:chExt cx="4519800" cy="28778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2"/>
                <a:srcRect l="0" t="13084" r="0" b="0"/>
                <a:stretch/>
              </p:blipFill>
              <p:spPr>
                <a:xfrm>
                  <a:off x="2124000" y="2348280"/>
                  <a:ext cx="4519800" cy="28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11280" y="2492640"/>
                  <a:ext cx="432000" cy="216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116000" y="2276640"/>
                <a:ext cx="129528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HRC = 6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43280" y="2637000"/>
                <a:ext cx="21600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042920" y="155736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Dureza de temple para ambos aceros (mismo %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0360" y="5373720"/>
              <a:ext cx="35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urvas Jominy: Aceros O1 y O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268360" y="333360"/>
            <a:ext cx="6875640" cy="6273000"/>
            <a:chOff x="2268360" y="333360"/>
            <a:chExt cx="6875640" cy="6273000"/>
          </a:xfrm>
        </p:grpSpPr>
        <p:sp>
          <p:nvSpPr>
            <p:cNvPr id="157" name=""/>
            <p:cNvSpPr/>
            <p:nvPr/>
          </p:nvSpPr>
          <p:spPr>
            <a:xfrm>
              <a:off x="287964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59280" y="602136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68360" y="1197000"/>
              <a:ext cx="4751280" cy="4595760"/>
              <a:chOff x="2268360" y="1197000"/>
              <a:chExt cx="4751280" cy="4595760"/>
            </a:xfrm>
          </p:grpSpPr>
          <p:pic>
            <p:nvPicPr>
              <p:cNvPr id="1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1197000"/>
                <a:ext cx="4751280" cy="45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flipV="1">
                <a:off x="4571640" y="2206800"/>
                <a:ext cx="0" cy="2808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27280" y="2351160"/>
                <a:ext cx="158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56000" y="213516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692360" y="333360"/>
            <a:ext cx="7272360" cy="6385680"/>
            <a:chOff x="1692360" y="333360"/>
            <a:chExt cx="7272360" cy="6385680"/>
          </a:xfrm>
        </p:grpSpPr>
        <p:sp>
          <p:nvSpPr>
            <p:cNvPr id="165" name=""/>
            <p:cNvSpPr/>
            <p:nvPr/>
          </p:nvSpPr>
          <p:spPr>
            <a:xfrm>
              <a:off x="2752560" y="33336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00720" y="638172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talotecnia. E.T.S.I.M.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692360" y="1341360"/>
              <a:ext cx="5649840" cy="3597120"/>
              <a:chOff x="1692360" y="1341360"/>
              <a:chExt cx="5649840" cy="3597120"/>
            </a:xfrm>
          </p:grpSpPr>
          <p:pic>
            <p:nvPicPr>
              <p:cNvPr id="168" name="" descr=""/>
              <p:cNvPicPr/>
              <p:nvPr/>
            </p:nvPicPr>
            <p:blipFill>
              <a:blip r:embed="rId2"/>
              <a:srcRect l="0" t="13084" r="0" b="0"/>
              <a:stretch/>
            </p:blipFill>
            <p:spPr>
              <a:xfrm>
                <a:off x="1692360" y="1341360"/>
                <a:ext cx="5649840" cy="359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2629080" y="1917360"/>
                <a:ext cx="11509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5440" y="1844640"/>
                <a:ext cx="0" cy="20174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48360" y="1773000"/>
                <a:ext cx="0" cy="20890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97080" y="1701720"/>
                <a:ext cx="432000" cy="307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6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465280" y="5157720"/>
              <a:ext cx="4103640" cy="10159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1: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dj = 6/16” (10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2:</a:t>
              </a: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dj = 4/16” (6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332000" y="0"/>
            <a:ext cx="7812000" cy="6863400"/>
            <a:chOff x="1332000" y="0"/>
            <a:chExt cx="7812000" cy="6863400"/>
          </a:xfrm>
        </p:grpSpPr>
        <p:sp>
          <p:nvSpPr>
            <p:cNvPr id="175" name=""/>
            <p:cNvSpPr/>
            <p:nvPr/>
          </p:nvSpPr>
          <p:spPr>
            <a:xfrm>
              <a:off x="2484360" y="0"/>
              <a:ext cx="35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928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332000" y="981000"/>
              <a:ext cx="4463640" cy="5594040"/>
              <a:chOff x="1332000" y="981000"/>
              <a:chExt cx="4463640" cy="5594040"/>
            </a:xfrm>
          </p:grpSpPr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981000"/>
                <a:ext cx="4463640" cy="559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 flipV="1">
                <a:off x="2718360" y="4101120"/>
                <a:ext cx="0" cy="148284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103120" y="4180680"/>
                <a:ext cx="6926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03120" y="4492080"/>
                <a:ext cx="46260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960" y="4414680"/>
                <a:ext cx="0" cy="11692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72360" y="4335480"/>
                <a:ext cx="308520" cy="3128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50480" y="4024080"/>
                <a:ext cx="306360" cy="3110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156360" y="3336840"/>
              <a:ext cx="2736720" cy="94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O1: D</a:t>
              </a:r>
              <a:r>
                <a:rPr b="1" lang="es-ES" sz="2000" spc="-1" strike="noStrike" baseline="-25000">
                  <a:solidFill>
                    <a:srgbClr val="0066ff"/>
                  </a:solidFill>
                  <a:latin typeface="Times New Roman"/>
                </a:rPr>
                <a:t>ci</a:t>
              </a: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 = 65 mm (2,6”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O2: D</a:t>
              </a:r>
              <a:r>
                <a:rPr b="1" lang="es-ES" sz="2000" spc="-1" strike="noStrike" baseline="-25000">
                  <a:solidFill>
                    <a:srgbClr val="ff00ff"/>
                  </a:solidFill>
                  <a:latin typeface="Times New Roman"/>
                </a:rPr>
                <a:t>ci</a:t>
              </a: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 = 50 mm (2,0”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476360" y="0"/>
            <a:ext cx="7667640" cy="6863400"/>
            <a:chOff x="1476360" y="0"/>
            <a:chExt cx="7667640" cy="6863400"/>
          </a:xfrm>
        </p:grpSpPr>
        <p:sp>
          <p:nvSpPr>
            <p:cNvPr id="187" name=""/>
            <p:cNvSpPr/>
            <p:nvPr/>
          </p:nvSpPr>
          <p:spPr>
            <a:xfrm>
              <a:off x="298296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43520" y="5229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476360" y="907920"/>
              <a:ext cx="650232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843280" y="5516640"/>
              <a:ext cx="3744720" cy="94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0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000" spc="-1" strike="noStrike">
                  <a:solidFill>
                    <a:srgbClr val="0066ff"/>
                  </a:solidFill>
                  <a:latin typeface="Times New Roman"/>
                </a:rPr>
                <a:t> = 1,30” (33 mm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0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000" spc="-1" strike="noStrike">
                  <a:solidFill>
                    <a:srgbClr val="ff00ff"/>
                  </a:solidFill>
                  <a:latin typeface="Times New Roman"/>
                </a:rPr>
                <a:t> = 0,85” (22 mm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2000" y="6278400"/>
              <a:ext cx="31320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508720" y="3141720"/>
              <a:ext cx="0" cy="1511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164000" y="1557360"/>
              <a:ext cx="360360" cy="358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24720" y="1268280"/>
              <a:ext cx="71928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16720" y="2349000"/>
              <a:ext cx="0" cy="237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123640" y="2492280"/>
              <a:ext cx="453708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8720" y="234936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3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4724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72360" y="2349360"/>
              <a:ext cx="287280" cy="2890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64000" y="3068640"/>
              <a:ext cx="28764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8720" y="3068640"/>
              <a:ext cx="0" cy="158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4000" y="2852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24000" y="3213000"/>
              <a:ext cx="3456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2360" y="30686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0,85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476360" y="0"/>
            <a:ext cx="7667640" cy="6863400"/>
            <a:chOff x="1476360" y="0"/>
            <a:chExt cx="7667640" cy="6863400"/>
          </a:xfrm>
        </p:grpSpPr>
        <p:sp>
          <p:nvSpPr>
            <p:cNvPr id="206" name=""/>
            <p:cNvSpPr/>
            <p:nvPr/>
          </p:nvSpPr>
          <p:spPr>
            <a:xfrm>
              <a:off x="2990880" y="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ROBLEMA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95640" y="4797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ig. II.17.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508720" y="2882520"/>
              <a:ext cx="0" cy="1506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3071880"/>
              <a:ext cx="35276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1476360" y="1062000"/>
              <a:ext cx="6502320" cy="37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flipH="1">
              <a:off x="7164360" y="1251000"/>
              <a:ext cx="432000" cy="376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96360" y="1125360"/>
              <a:ext cx="718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H = 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516720" y="2003400"/>
              <a:ext cx="0" cy="238608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23640" y="2130480"/>
              <a:ext cx="453708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200340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52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0720" y="43275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2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72360" y="2003400"/>
              <a:ext cx="287280" cy="252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64000" y="2693880"/>
              <a:ext cx="287640" cy="250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08720" y="2759040"/>
              <a:ext cx="0" cy="1630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24000" y="2820960"/>
              <a:ext cx="0" cy="18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24000" y="2820960"/>
              <a:ext cx="34560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26319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1,05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0360" y="5207040"/>
              <a:ext cx="4392720" cy="111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Acero O1: D</a:t>
              </a:r>
              <a:r>
                <a:rPr b="1" lang="es-ES" sz="2400" spc="-1" strike="noStrike" baseline="-25000">
                  <a:solidFill>
                    <a:srgbClr val="0066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0066ff"/>
                  </a:solidFill>
                  <a:latin typeface="Times New Roman"/>
                </a:rPr>
                <a:t> = 1,52” (39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Acero O2: D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Times New Roman"/>
                </a:rPr>
                <a:t>cr</a:t>
              </a: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 = 1,05” (27 m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59280" y="6278400"/>
              <a:ext cx="33847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eros. Metalurgia Física, Selección y Diseñ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2:04:14Z</dcterms:created>
  <dc:creator>Jose Ovidio</dc:creator>
  <dc:description/>
  <dc:language>en-US</dc:language>
  <cp:lastModifiedBy>José Ovidio García</cp:lastModifiedBy>
  <dcterms:modified xsi:type="dcterms:W3CDTF">2005-07-10T18:11:22Z</dcterms:modified>
  <cp:revision>58</cp:revision>
  <dc:subject/>
  <dc:title>Diapositiva 1</dc:title>
</cp:coreProperties>
</file>