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7.wmf" ContentType="image/x-wmf"/>
  <Override PartName="/ppt/media/image8.png" ContentType="image/png"/>
  <Override PartName="/ppt/media/image38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9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053-F5BC-4F34-9140-E0535029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6AA-F343-4BA0-B702-EE10D38F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016-1CF9-436F-806F-3548D59E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190-2320-4CFB-8556-DC5179F1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C90C-8CC6-437C-BBB9-76D39023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7685-CCEF-433C-AA9F-0C841E3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80F4-7A2B-4E8A-9F17-4DC25B3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8F4C-ED76-4D82-AE6F-304D32ED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7EBF-D336-4CB8-82E5-0AA74880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7BCD-2CD3-48C5-B06C-9D9B2C24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7D98-EBFF-4B0F-8297-407EE35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C01-1E99-46D3-99B1-F3D4281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E2EA-6CC6-4D07-A9B8-50A631F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9F94-CF3E-494E-9552-4CE645C4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9816-FEBA-44D8-8922-5AC6D49E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3EAF-3B2C-40F8-8A8D-D9709D23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3C3D-0C9F-4F16-9C73-67BF1C90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3B9-F2F0-41A5-8AC0-EE392B5C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8EC-84F7-47FE-B959-67987B22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8D9-C692-42C4-A935-EBAFDD0C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8B3-0766-4B8E-86F6-95F95067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579-31B3-4366-A0D4-5D39134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894-6263-4F9A-969C-FC03B1B0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AF6-2766-4D01-BB01-5D601857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C265-7EF5-4811-9D0F-2EA6A815DD3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8A30-A4BF-42C6-AA55-A815AE75254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00"/>
                </a:solidFill>
                <a:latin typeface="Arial"/>
              </a:rPr>
              <a:t>MATERIALES </a:t>
            </a:r>
            <a:br>
              <a:rPr sz="4800"/>
            </a:br>
            <a:r>
              <a:rPr b="0" lang="es-ES_tradnl" sz="4800" spc="-1" strike="noStrike">
                <a:solidFill>
                  <a:srgbClr val="ffff00"/>
                </a:solidFill>
                <a:latin typeface="Arial"/>
              </a:rPr>
              <a:t>COMPUESTOS POLIMERIC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Tendencias d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aplicación reci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54480" y="476280"/>
            <a:ext cx="633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ROPIEDADES DE LOS LAMIN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“Prepregs” epoxi unidirecci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Fig_3-3a.jpg"/>
          <p:cNvPicPr/>
          <p:nvPr/>
        </p:nvPicPr>
        <p:blipFill>
          <a:blip r:embed="rId1"/>
          <a:stretch/>
        </p:blipFill>
        <p:spPr>
          <a:xfrm>
            <a:off x="1285920" y="16272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Fig_3-3b.jpg"/>
          <p:cNvPicPr/>
          <p:nvPr/>
        </p:nvPicPr>
        <p:blipFill>
          <a:blip r:embed="rId2"/>
          <a:stretch/>
        </p:blipFill>
        <p:spPr>
          <a:xfrm>
            <a:off x="5364000" y="1606680"/>
            <a:ext cx="2592720" cy="218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Fig_3-4a.jpg"/>
          <p:cNvPicPr/>
          <p:nvPr/>
        </p:nvPicPr>
        <p:blipFill>
          <a:blip r:embed="rId3"/>
          <a:stretch/>
        </p:blipFill>
        <p:spPr>
          <a:xfrm>
            <a:off x="826920" y="4437000"/>
            <a:ext cx="3333960" cy="1886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Fig_3-5a.jpg"/>
          <p:cNvPicPr/>
          <p:nvPr/>
        </p:nvPicPr>
        <p:blipFill>
          <a:blip r:embed="rId4"/>
          <a:stretch/>
        </p:blipFill>
        <p:spPr>
          <a:xfrm>
            <a:off x="4932360" y="4292640"/>
            <a:ext cx="33336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2682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ROPIEDADES DE 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ERIALES COM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Rigidez, resistencia, coeficiente expansión térmica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Importancia del comportamiento viscoelás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Influencia de efectos ambi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nisotrop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15200" y="260280"/>
            <a:ext cx="516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STRATIFICACIÓN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CONTROL DE PROP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013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structuras tejidas: Adaptabilidad y manejabilidad →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abricación de formas complej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Compuestos híbridos → Expansión rango de prop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95280" y="333360"/>
            <a:ext cx="83534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eriales compuestos competidores en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plicaciones estructurales. Aceptación cre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- Posibilidades de implantación limit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2773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197748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16040"/>
                <a:tab algn="l" pos="3200400"/>
                <a:tab algn="l" pos="3886200"/>
                <a:tab algn="l" pos="4457880"/>
                <a:tab algn="l" pos="5029200"/>
                <a:tab algn="l" pos="7613640"/>
                <a:tab algn="l" pos="7858080"/>
                <a:tab algn="l" pos="8215200"/>
                <a:tab algn="l" pos="8572680"/>
                <a:tab algn="l" pos="8929800"/>
                <a:tab algn="l" pos="9286920"/>
                <a:tab algn="l" pos="9644040"/>
                <a:tab algn="l" pos="10001160"/>
                <a:tab algn="l" pos="10358280"/>
                <a:tab algn="l" pos="107157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ta resistencia específ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3200400"/>
                <a:tab algn="l" pos="3886200"/>
                <a:tab algn="l" pos="4457880"/>
                <a:tab algn="l" pos="5029200"/>
                <a:tab algn="l" pos="7613640"/>
                <a:tab algn="l" pos="7858080"/>
                <a:tab algn="l" pos="8215200"/>
                <a:tab algn="l" pos="8572680"/>
                <a:tab algn="l" pos="8929800"/>
                <a:tab algn="l" pos="9286920"/>
                <a:tab algn="l" pos="9644040"/>
                <a:tab algn="l" pos="10001160"/>
                <a:tab algn="l" pos="10358280"/>
                <a:tab algn="l" pos="107157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pacidad fabricación propie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3200400"/>
                <a:tab algn="l" pos="3886200"/>
                <a:tab algn="l" pos="4457880"/>
                <a:tab algn="l" pos="5029200"/>
                <a:tab algn="l" pos="7613640"/>
                <a:tab algn="l" pos="7858080"/>
                <a:tab algn="l" pos="8215200"/>
                <a:tab algn="l" pos="8572680"/>
                <a:tab algn="l" pos="8929800"/>
                <a:tab algn="l" pos="9286920"/>
                <a:tab algn="l" pos="9644040"/>
                <a:tab algn="l" pos="10001160"/>
                <a:tab algn="l" pos="10358280"/>
                <a:tab algn="l" pos="107157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cánicas direc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3200400"/>
                <a:tab algn="l" pos="3886200"/>
                <a:tab algn="l" pos="4457880"/>
                <a:tab algn="l" pos="5029200"/>
                <a:tab algn="l" pos="7613640"/>
                <a:tab algn="l" pos="7858080"/>
                <a:tab algn="l" pos="8215200"/>
                <a:tab algn="l" pos="8572680"/>
                <a:tab algn="l" pos="8929800"/>
                <a:tab algn="l" pos="9286920"/>
                <a:tab algn="l" pos="9644040"/>
                <a:tab algn="l" pos="10001160"/>
                <a:tab algn="l" pos="10358280"/>
                <a:tab algn="l" pos="107157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istencia a corro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3200400"/>
                <a:tab algn="l" pos="3886200"/>
                <a:tab algn="l" pos="4457880"/>
                <a:tab algn="l" pos="5029200"/>
                <a:tab algn="l" pos="7613640"/>
                <a:tab algn="l" pos="7858080"/>
                <a:tab algn="l" pos="8215200"/>
                <a:tab algn="l" pos="8572680"/>
                <a:tab algn="l" pos="8929800"/>
                <a:tab algn="l" pos="9286920"/>
                <a:tab algn="l" pos="9644040"/>
                <a:tab algn="l" pos="10001160"/>
                <a:tab algn="l" pos="10358280"/>
                <a:tab algn="l" pos="107157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istencia a fat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3200400"/>
                <a:tab algn="l" pos="3886200"/>
                <a:tab algn="l" pos="4457880"/>
                <a:tab algn="l" pos="5029200"/>
                <a:tab algn="l" pos="7613640"/>
                <a:tab algn="l" pos="7858080"/>
                <a:tab algn="l" pos="8215200"/>
                <a:tab algn="l" pos="8572680"/>
                <a:tab algn="l" pos="8929800"/>
                <a:tab algn="l" pos="9286920"/>
                <a:tab algn="l" pos="9644040"/>
                <a:tab algn="l" pos="10001160"/>
                <a:tab algn="l" pos="10358280"/>
                <a:tab algn="l" pos="107157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jos coeficientes de expansión tér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3200400"/>
                <a:tab algn="l" pos="3886200"/>
                <a:tab algn="l" pos="4457880"/>
                <a:tab algn="l" pos="5029200"/>
                <a:tab algn="l" pos="7613640"/>
                <a:tab algn="l" pos="7858080"/>
                <a:tab algn="l" pos="8215200"/>
                <a:tab algn="l" pos="8572680"/>
                <a:tab algn="l" pos="8929800"/>
                <a:tab algn="l" pos="9286920"/>
                <a:tab algn="l" pos="9644040"/>
                <a:tab algn="l" pos="10001160"/>
                <a:tab algn="l" pos="10358280"/>
                <a:tab algn="l" pos="107157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mplificación procesos manufactu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3200400"/>
                <a:tab algn="l" pos="3886200"/>
                <a:tab algn="l" pos="4457880"/>
                <a:tab algn="l" pos="5029200"/>
                <a:tab algn="l" pos="7613640"/>
                <a:tab algn="l" pos="7858080"/>
                <a:tab algn="l" pos="8215200"/>
                <a:tab algn="l" pos="8572680"/>
                <a:tab algn="l" pos="8929800"/>
                <a:tab algn="l" pos="9286920"/>
                <a:tab algn="l" pos="9644040"/>
                <a:tab algn="l" pos="10001160"/>
                <a:tab algn="l" pos="10358280"/>
                <a:tab algn="l" pos="107157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tencial para ciclos de procesado rá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3200400"/>
                <a:tab algn="l" pos="3886200"/>
                <a:tab algn="l" pos="4457880"/>
                <a:tab algn="l" pos="5029200"/>
                <a:tab algn="l" pos="7613640"/>
                <a:tab algn="l" pos="7858080"/>
                <a:tab algn="l" pos="8215200"/>
                <a:tab algn="l" pos="8572680"/>
                <a:tab algn="l" pos="8929800"/>
                <a:tab algn="l" pos="9286920"/>
                <a:tab algn="l" pos="9644040"/>
                <a:tab algn="l" pos="10001160"/>
                <a:tab algn="l" pos="10358280"/>
                <a:tab algn="l" pos="107157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abilidad dimen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25400" y="98100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VENTAJAS DE LOS COMPO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INDUSTRIA AEROESPACIA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00720" y="3573360"/>
          <a:ext cx="4321080" cy="27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573360"/>
                    <a:ext cx="4321080" cy="27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755640" y="1125360"/>
            <a:ext cx="762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Importante desarrollo desde 19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Rigidez y resistencia específic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resistencia a corrosión, prestaciones en fat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capacidad absorción ener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11280" y="3213000"/>
          <a:ext cx="3456000" cy="33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213000"/>
                    <a:ext cx="34560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260280"/>
            <a:ext cx="889308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Avi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articipación en costos glob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Costo del apa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Consumo de combust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Manten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spectos d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636480"/>
                <a:tab algn="l" pos="421488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24000" y="1274760"/>
          <a:ext cx="388764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74760"/>
                    <a:ext cx="388764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195640" y="3718080"/>
          <a:ext cx="4681440" cy="28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718080"/>
                    <a:ext cx="468144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908000" y="1844640"/>
          <a:ext cx="54738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44640"/>
                    <a:ext cx="54738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84360" y="397368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volución: Alas y fuselaje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Boeing 7E7 (introducción prevista en 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omposites: 50% materiales estruc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4680" y="351000"/>
            <a:ext cx="69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Reducciones de peso actuales: 15-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Incremento de costos en ocasiones →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Necesidad optimización materiales y tecnolog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981000"/>
            <a:ext cx="30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33336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Aviación mili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viación militar: Motor de ev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Necesidad de estructuras lig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Capacidad de carg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Maniobr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apacidades despegue y aterriz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osites en EUROFIGHTER: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26542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494880" y="476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Helicópt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3960" y="1268280"/>
            <a:ext cx="719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Utilización de compuestos en palas de roto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hace 40 años)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→ Incremento vida en serv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 Actualmente: Materiales estructurales en la cab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92360" y="2781360"/>
          <a:ext cx="554364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81360"/>
                    <a:ext cx="554364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136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ERIALES POLIME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igere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Facilidad de trans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Resistencia a la corro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Sustitución materiales tradi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Nuevas 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Propiedades mecánicas defic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Aplicaciones fun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29080" y="47628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Aplicaciones espa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11120" y="128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1413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ector de mayor interés en estructuras lig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10000 € por kg ganado)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→ Fibras de 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 alto mód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3500280"/>
          <a:ext cx="37656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500280"/>
                    <a:ext cx="37656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148360" y="3500280"/>
          <a:ext cx="3384360" cy="24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3500280"/>
                    <a:ext cx="338436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04720" y="76500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Perspec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8160" y="1557360"/>
            <a:ext cx="7963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ejoras adicionales en prestaciones mecán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Reducción de co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Desarrollo de tecnolog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Nanotecnologías (nanotubos de 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- Desarrollo herramientas de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vances concre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las y fuselaje (Boeing 7E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15560" y="476280"/>
            <a:ext cx="52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INDUSTRIA DE AUTOMO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9240" y="1557360"/>
            <a:ext cx="816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Inicio utilización materiales compuestos: 19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- Numerosas aplicaciones, pero limitada adop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ara producción en masa (materiales caro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tiempos de procesado elevados, dificult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cabados superficiales de calid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eriales actuales: Principalmen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termoplásticos/fibras cor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(moldeo por inyección y procesos deriv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plicaciones típicas: Salpicaderos, acces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de puertas, componentes interiore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00000" y="476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Componentes estructurales con fibras lar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8360" y="1494000"/>
          <a:ext cx="3240000" cy="24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4000"/>
                    <a:ext cx="3240000" cy="24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998520" y="1773360"/>
            <a:ext cx="393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apa de soporte (Vol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P/F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ducción peso: 2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mpo fabricación: &lt; 4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076720" y="3946680"/>
          <a:ext cx="3772080" cy="24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946680"/>
                    <a:ext cx="377208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544320" y="4724280"/>
            <a:ext cx="31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arachoques BM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ducción peso: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61080" y="26028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Aplicaciones termoestables (reforz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55640" y="1268280"/>
          <a:ext cx="3670200" cy="24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70200" cy="24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646160" y="1628640"/>
            <a:ext cx="39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aneles carrocería y port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rasero Renault Sp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3600" y="4149720"/>
          <a:ext cx="3590640" cy="21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3600" y="4149720"/>
                    <a:ext cx="359064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687960" y="4653000"/>
            <a:ext cx="35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iat Coup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etas y capó integr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701800" y="33336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Vehículos depor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7040" y="1197000"/>
            <a:ext cx="55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Bajo peso, elevada resistencia/rig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Bajo volumen producción, altos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3816360" cy="2009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574520" y="2637000"/>
            <a:ext cx="39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ston Mar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Monocasco compuesto F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Elementos prote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oliéster/F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64000" y="4540320"/>
            <a:ext cx="2808360" cy="2084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261440" y="5084640"/>
            <a:ext cx="282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errari Enzo (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hasis y carroce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uesto F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990160" y="47628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Camiones y tra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095640" cy="259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45800" y="2060640"/>
            <a:ext cx="36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arachoqu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aneles de carrocer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berturas superiores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284720" y="4730760"/>
          <a:ext cx="4584600" cy="17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4730760"/>
                    <a:ext cx="458460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55600" y="4797360"/>
            <a:ext cx="395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railer refrige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andw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sina/FV (nucleo espu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horro peso: 1100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34520" y="549360"/>
            <a:ext cx="55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Algunas prioridades para el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2320" y="1624320"/>
            <a:ext cx="811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cesos para elevadas produ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omatización 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eriales para elevados volúmenes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eriales con prestaciones cercanas a las obteni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autoclave, con ciclos más co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ción y estabilidad precio F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abilidad suministro F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eriales y procesos compatibles con regulaciones 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uevos materiales para requisitos de resistencia al fu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étodos de ensay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1486080"/>
                <a:tab algn="l" pos="2171880"/>
                <a:tab algn="l" pos="2743200"/>
                <a:tab algn="l" pos="3200400"/>
                <a:tab algn="l" pos="3886200"/>
                <a:tab algn="l" pos="44578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cedimientos de dise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3200" y="134136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INFRAESTRUCT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4520" y="2276640"/>
            <a:ext cx="843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Búsqueda de alternativas a materiales tradicion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(aceros y aleaciones metálicas)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eriales compuestos polimé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eriales compuestos: Eficiencia y econom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n desarrollo y reparación de estruct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16000" y="620640"/>
            <a:ext cx="73659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Propiedade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sistencia especí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urabilidad, resistencia a corro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acilidad de insta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Versat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ortamiento antisís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ortamiento en fat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Lí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sto elev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ortamiento frág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formación bajo carga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gradación bajo radiación UV, fotodegrad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fectos tempera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60280"/>
            <a:ext cx="88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ejora propiedades mecánica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Estructuras ingenieri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eriales compuestos o “Composites” polimé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ERIAL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Combinación de dos o más componentes para formar una estructura simple  con una interfase identificab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93372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ERIALES COMPUESTOS POLIMÉRIC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riz + Refuerz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riz: Polímero termoplástico o termoe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Refuerzo: Naturaleza fibrosa e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Vidrio, carbono o aram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28720" y="26028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Nuevas constru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00000" y="1341360"/>
          <a:ext cx="3122640" cy="21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Figure3_FRP_APPL.jpg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312264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500720" y="1052640"/>
            <a:ext cx="4176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fuerzos para hormig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Barras de refuer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structuras fij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ens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61080" y="4365720"/>
            <a:ext cx="6836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Reparación y rehabilitación de estruct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cubrimiento de vigas y colum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Vías de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oportes para señalización, alumb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994120" y="40464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CONSTRUC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3440" y="1413000"/>
            <a:ext cx="3844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Propiedade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stabilidad dimen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ur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igere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lexibilidad en dise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3080" y="4221000"/>
            <a:ext cx="8317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Aplicaciones exteriores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Aplicaciones interi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lumnas, frontones, cornisas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vestimientos est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Bóvedas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aneles de sep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vestimientos, coberturas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73760" y="26028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QUIPOS INDUSTR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8360" y="981000"/>
            <a:ext cx="624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Aplicaciones resistentes a la corro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258920" y="1916280"/>
          <a:ext cx="2327400" cy="30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2327400" cy="30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16360" y="3357720"/>
          <a:ext cx="2592360" cy="17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357720"/>
                    <a:ext cx="2592360" cy="17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217760" y="1628640"/>
            <a:ext cx="427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ndu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pósitos de almace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anques presuriz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quipos de refrig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551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57340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Estructuras ligeras, complejas, de gran tama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5896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79280" y="333360"/>
            <a:ext cx="50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Industria petrolífera y gasís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7040" y="1197000"/>
            <a:ext cx="48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ndu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ubos de exploración y ext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89080" y="263700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Otras 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33440" y="342900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ontaje de estructuras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macenaje y transp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580000" y="4221000"/>
            <a:ext cx="16495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49440" y="620640"/>
            <a:ext cx="57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Produccion y transporte de ener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Composite Wind Turbine Blade"/>
          <p:cNvPicPr/>
          <p:nvPr/>
        </p:nvPicPr>
        <p:blipFill>
          <a:blip r:embed="rId1"/>
          <a:stretch/>
        </p:blipFill>
        <p:spPr>
          <a:xfrm>
            <a:off x="900000" y="1413000"/>
            <a:ext cx="3024360" cy="2022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647960" y="1700280"/>
            <a:ext cx="436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erogener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FC para mejora de rigidez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ortamiento aerodinámico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ducción de carg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6160" y="4581360"/>
            <a:ext cx="450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ostes y torres de conducción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Reducción de peso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sistencia a la corros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eriales compuestos establecidos actual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n sectores dive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Ventaj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Reducción de p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- Anisotropía a med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- Fabricación estructuras complejas (má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y menos costo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4000" y="85896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restaciones mejor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- Propiedades mecánicas a T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- Propiedades tridimens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- Tenacidad, duc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Penetración en aplicaciones mas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- Materiales de menor co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- Procesos de manufactura adecu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28000" y="787320"/>
            <a:ext cx="8081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eriales compuesto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(composites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polimé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efuerzo: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esistencia, rigide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riz: Protección refuerzo, transmisión ten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forma del produ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Estructura matriz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efuer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5805360"/>
            <a:ext cx="302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76360" y="3789360"/>
          <a:ext cx="3095640" cy="25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789360"/>
                    <a:ext cx="309564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80280" y="333360"/>
            <a:ext cx="761040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ERIALES COMPUESTOS POLIME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Alta rigidez y resist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Facilidad de moldeo de formas complej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esistencia a agentes ambi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Baja dens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Superiores a metales en muchas 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PROPIEDADES DE LOS COM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Propiedades fi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Propiedades matr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Fracción en volumen de fi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Geometría y orientación fib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093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ROPIEDADES MECAN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ATERIALES ESTRUCTU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Fig_1-3a.gif"/>
          <p:cNvPicPr/>
          <p:nvPr/>
        </p:nvPicPr>
        <p:blipFill>
          <a:blip r:embed="rId1"/>
          <a:stretch/>
        </p:blipFill>
        <p:spPr>
          <a:xfrm>
            <a:off x="395280" y="2421000"/>
            <a:ext cx="3816360" cy="3106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Fig_1-3b.gif"/>
          <p:cNvPicPr/>
          <p:nvPr/>
        </p:nvPicPr>
        <p:blipFill>
          <a:blip r:embed="rId2"/>
          <a:stretch/>
        </p:blipFill>
        <p:spPr>
          <a:xfrm>
            <a:off x="4859280" y="2421000"/>
            <a:ext cx="3849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Fig_1-3c.gif"/>
          <p:cNvPicPr/>
          <p:nvPr/>
        </p:nvPicPr>
        <p:blipFill>
          <a:blip r:embed="rId1"/>
          <a:stretch/>
        </p:blipFill>
        <p:spPr>
          <a:xfrm>
            <a:off x="468360" y="254160"/>
            <a:ext cx="3959280" cy="3235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Fig_1-3d.gif"/>
          <p:cNvPicPr/>
          <p:nvPr/>
        </p:nvPicPr>
        <p:blipFill>
          <a:blip r:embed="rId2"/>
          <a:stretch/>
        </p:blipFill>
        <p:spPr>
          <a:xfrm>
            <a:off x="468360" y="3716280"/>
            <a:ext cx="3959280" cy="2884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Fig_1-3e.gif"/>
          <p:cNvPicPr/>
          <p:nvPr/>
        </p:nvPicPr>
        <p:blipFill>
          <a:blip r:embed="rId3"/>
          <a:stretch/>
        </p:blipFill>
        <p:spPr>
          <a:xfrm>
            <a:off x="4788000" y="3716280"/>
            <a:ext cx="3952800" cy="2868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935240" y="907920"/>
            <a:ext cx="370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levadas prop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specífica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→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en aplicaciones 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equieren mov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260280"/>
            <a:ext cx="85690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CONTRIBUCION DE LOS COMPON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00"/>
                </a:solidFill>
                <a:uFillTx/>
                <a:latin typeface="Arial"/>
              </a:rPr>
              <a:t>Resina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Propiedades mecá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Ductilidad resina ≥ Ductilidad refuer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Propiedades adhes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Tenac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Resistencia a degradación ambi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Fig_2-0a.jpg"/>
          <p:cNvPicPr/>
          <p:nvPr/>
        </p:nvPicPr>
        <p:blipFill>
          <a:blip r:embed="rId1"/>
          <a:stretch/>
        </p:blipFill>
        <p:spPr>
          <a:xfrm>
            <a:off x="2987640" y="3645000"/>
            <a:ext cx="3095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0"/>
            <a:ext cx="3924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00"/>
                </a:solidFill>
                <a:uFillTx/>
                <a:latin typeface="Arial"/>
              </a:rPr>
              <a:t>Refuerzo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opiedades mecá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terfase fibra-res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efecto trat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perfi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racción en 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oceso trans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po res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orma incorpo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 Geome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Orientació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nisotropía contro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ventaj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5805360"/>
            <a:ext cx="793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opiedades se crean al mismo tiempo que el materia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Proceso de manufactura determin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Fig_2-0b.jpg"/>
          <p:cNvPicPr/>
          <p:nvPr/>
        </p:nvPicPr>
        <p:blipFill>
          <a:blip r:embed="rId1"/>
          <a:stretch/>
        </p:blipFill>
        <p:spPr>
          <a:xfrm>
            <a:off x="4932360" y="1484280"/>
            <a:ext cx="3894120" cy="2725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Fig_3-1a.jpg"/>
          <p:cNvPicPr/>
          <p:nvPr/>
        </p:nvPicPr>
        <p:blipFill>
          <a:blip r:embed="rId2"/>
          <a:stretch/>
        </p:blipFill>
        <p:spPr>
          <a:xfrm>
            <a:off x="5364000" y="4797360"/>
            <a:ext cx="19051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22:27:42Z</dcterms:created>
  <dc:creator/>
  <dc:description/>
  <dc:language>en-US</dc:language>
  <cp:lastModifiedBy/>
  <dcterms:modified xsi:type="dcterms:W3CDTF">2005-02-04T13:49:32Z</dcterms:modified>
  <cp:revision>40</cp:revision>
  <dc:subject/>
  <dc:title>MATERIALES COMPUES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